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DC3-0018-4C26-9EB1-4EFBBCD2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B38-8272-4F32-A1CC-9DFCFEE8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667-8DA3-43BF-AF3D-EDA1163F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AAE-C12B-4843-9A7B-0ABA3F97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A8C-6D0F-473C-874C-EB31C24B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44A-DBE4-4281-9597-B917388C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1A3-6569-45F4-B09A-3A532C07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1E3-5A47-47FF-A852-3416B3E7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A11C-40F3-4639-9A61-DC52265A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0FAC-D292-41EF-BD60-1BB6308C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B3A-70DD-4DB8-B5B6-90CE7731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35E-D2C4-49B3-8CBD-0E3A834A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AD32-86B8-45F2-AE56-1FCE6F1EFD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9+vaso+deferente"/>
          <p:cNvPicPr/>
          <p:nvPr/>
        </p:nvPicPr>
        <p:blipFill>
          <a:blip r:embed="rId1"/>
          <a:srcRect l="8722" t="1538" r="14405" b="2218"/>
          <a:stretch/>
        </p:blipFill>
        <p:spPr>
          <a:xfrm>
            <a:off x="1403280" y="1341360"/>
            <a:ext cx="63374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aparato-reproductor-masculino-402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258920" y="1268280"/>
            <a:ext cx="6443640" cy="4786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116000" y="404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ARATO REPRODUCTOR MASCUL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7"/>
          <p:cNvGraphicFramePr/>
          <p:nvPr/>
        </p:nvGraphicFramePr>
        <p:xfrm>
          <a:off x="1116000" y="1341360"/>
          <a:ext cx="669600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341360"/>
                    <a:ext cx="669600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9"/>
          <p:cNvSpPr/>
          <p:nvPr/>
        </p:nvSpPr>
        <p:spPr>
          <a:xfrm>
            <a:off x="1116000" y="404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ARATO REPRODUCTOR MASCUL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mas18"/>
          <p:cNvPicPr/>
          <p:nvPr/>
        </p:nvPicPr>
        <p:blipFill>
          <a:blip r:embed="rId1"/>
          <a:srcRect l="0" t="0" r="-1077" b="-523"/>
          <a:stretch/>
        </p:blipFill>
        <p:spPr>
          <a:xfrm>
            <a:off x="0" y="1052640"/>
            <a:ext cx="4788000" cy="4475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1116000" y="404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ARATO REPRODUCTOR MASCUL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t%C3%BAbulo+semin%C3%ADfero"/>
          <p:cNvPicPr/>
          <p:nvPr/>
        </p:nvPicPr>
        <p:blipFill>
          <a:blip r:embed="rId2"/>
          <a:srcRect l="0" t="0" r="19852" b="0"/>
          <a:stretch/>
        </p:blipFill>
        <p:spPr>
          <a:xfrm>
            <a:off x="4788000" y="3179880"/>
            <a:ext cx="43560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826920" y="549360"/>
          <a:ext cx="7058160" cy="57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549360"/>
                    <a:ext cx="705816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385920" y="166680"/>
            <a:ext cx="8372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116000" y="404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ARATO REPRODUCTOR MASCUL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image109"/>
          <p:cNvPicPr/>
          <p:nvPr/>
        </p:nvPicPr>
        <p:blipFill>
          <a:blip r:embed="rId1"/>
          <a:stretch/>
        </p:blipFill>
        <p:spPr>
          <a:xfrm>
            <a:off x="1258920" y="1413000"/>
            <a:ext cx="65530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08:17:27Z</dcterms:created>
  <dc:creator>Rafael</dc:creator>
  <dc:description/>
  <dc:language>en-US</dc:language>
  <cp:lastModifiedBy>Rafael Moreno</cp:lastModifiedBy>
  <dcterms:modified xsi:type="dcterms:W3CDTF">2015-05-25T18:01:20Z</dcterms:modified>
  <cp:revision>7</cp:revision>
  <dc:subject/>
  <dc:title>Diapositiva 1</dc:title>
</cp:coreProperties>
</file>